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572-1EFC-48A1-AC48-1296FFE3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D7E3-B3C1-4358-B6AF-23AA55AA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298F-0845-4FB2-BEE5-5CFFC465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5F0-C697-4583-A867-2544B2A8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024E-3FD4-44F3-8430-9A599180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F214-C051-40E3-B07F-A18D6567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1FEB-5F39-4684-B325-06AD2915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FA64-898C-483C-B74F-D4CD3278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EC44-549B-48D7-B6AC-36D703DC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8AA0-DCF6-4445-960D-982565A8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3CF7-CB97-454C-A2E5-63429F49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584-BF95-41C8-B30A-6C0C72D0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0B48-7D8B-411B-B531-9ED5FECB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1FA2-CB94-4927-A002-313A1D0E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18A2-4758-4EAF-A4B8-5C180A1D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611F-FECC-45E1-8585-E8FD1934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C911-1B62-4381-A76E-15A9047D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20C0-81E5-4FA8-B216-BDB40CD9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50F1-2AD9-4515-AF42-90D32103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3A2-589D-43F4-BFBB-3B1F93A9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B7D9-9418-4E28-A4B2-23C044FC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E86-64AA-49D9-AE64-4931A008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4EFF-7EEE-4343-AB54-75E72461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FC65-D1CB-44CB-B797-6366CBE9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FBDD-4129-4E73-95D9-A5711CBB4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7" descr="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B58F-A2B7-4CE5-93A0-A909BB7D2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4437000"/>
            <a:ext cx="59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ОБЩЕСТВО. ЭКОСИСТЕМА. БИОГЕЦЕНО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333360"/>
            <a:ext cx="39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… </a:t>
            </a: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Поля и пестрые цветы,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И с гор струящиеся воды – 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Отдельно взятые черты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Всецельно дышащей природы: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Какая вас связала нить,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Одна другой светлей и краше?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Каким законом объяснить 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Родство таинственное наше?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                                          А. Толст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22766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объединяет различные организмы, жизнь которых проходит на одной территор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ему воздействие, оказываемое на один или несколько видов растений или животных, часто приводит к нарушениям условий жизни всех остальных элементов сообщества организмо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56000" y="69228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СООБЩЕСТВО (БИОЦЕНО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98900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вокупность видов растений и животных, длительное время сосуществующих в определенном пространстве и представляющих собой определенное экологическое един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&amp;Bcy;&amp;icy;&amp;ocy;&amp;tscy;&amp;icy;&amp;ncy;&amp;ocy;&amp;zcy; &amp;pcy;&amp;rcy;&amp;ucy;&amp;dcy;&amp;acy;"/>
          <p:cNvPicPr/>
          <p:nvPr/>
        </p:nvPicPr>
        <p:blipFill>
          <a:blip r:embed="rId1"/>
          <a:stretch/>
        </p:blipFill>
        <p:spPr>
          <a:xfrm>
            <a:off x="179280" y="3573360"/>
            <a:ext cx="3267360" cy="2809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&amp;Bcy;&amp;icy;&amp;ocy;&amp;tscy;&amp;icy;&amp;ncy;&amp;ocy;&amp;zcy; &amp;dcy;&amp;ucy;&amp;bcy;&amp;rcy;&amp;acy;&amp;vcy;&amp;ycy;"/>
          <p:cNvPicPr/>
          <p:nvPr/>
        </p:nvPicPr>
        <p:blipFill>
          <a:blip r:embed="rId2"/>
          <a:stretch/>
        </p:blipFill>
        <p:spPr>
          <a:xfrm>
            <a:off x="3492360" y="3573360"/>
            <a:ext cx="3097440" cy="2799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56000" y="69228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СООБЩЕСТВО (БИОЦЕНО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191628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звание «биоценоз» ввел в науку немецкий ученый Карл Мебиус в 1877 г. Изучая, как увеличить продуктивность устричного хозяйства на отмелях Северного моря, он обнаружил, что устрицы образуют вместе с другими видами морских животных тесные сообщества, которые приурочены к определенному грунту, солености и температуре воды. В этих сообществах происходит борьба за существование и регуляция численности видов, поэтому их продуктивность имеет пределы. Отсюда следовал практический вывод: «Если желательно увеличить число животных и растений против того, что имеется в естественных сообществах, то следует защитить яйца и молодь от врагов, дать им необходимую пищу и достаточное пространство. Это имеет место при искусственном разведении устриц, в рыболовстве, в лесном, полевом и садовом хозяйстве. В них мы имеем дело с искусственными жизненными сообществами, в которых важным фактором является работа человеческой мысли и работа рук»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05264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ОПОЛНИТЕЛЬНАЯ ИНФОРМ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&amp;Kcy;. &amp;Mcy;&amp;iecy;&amp;bcy;&amp;icy;&amp;ucy;&amp;scy; (1825 - 1908)"/>
          <p:cNvPicPr/>
          <p:nvPr/>
        </p:nvPicPr>
        <p:blipFill>
          <a:blip r:embed="rId1"/>
          <a:stretch/>
        </p:blipFill>
        <p:spPr>
          <a:xfrm>
            <a:off x="7308720" y="4724280"/>
            <a:ext cx="183528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56000" y="98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ЭКО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989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общество живых организмов вместе с физической средой их обитания, объединенные обменов веществ и энергии в единый комплек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4270320" cy="320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56000" y="98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БИОГЕОЦЕНО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844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нородный участок земной поверхности с определенным составом живых организмов (биоценоз) и определенными условиями среды обитания (биотоп), которые объединены обменом веществ и энергии в единый природный комплек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3" descr="3.jpg"/>
          <p:cNvPicPr/>
          <p:nvPr/>
        </p:nvPicPr>
        <p:blipFill>
          <a:blip r:embed="rId1"/>
          <a:srcRect l="16144" t="6176" r="16580" b="4237"/>
          <a:stretch/>
        </p:blipFill>
        <p:spPr>
          <a:xfrm>
            <a:off x="250920" y="3693960"/>
            <a:ext cx="2592360" cy="258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56000" y="98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БИОГЕОЦЕНО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1" descr="5.jpg"/>
          <p:cNvPicPr/>
          <p:nvPr/>
        </p:nvPicPr>
        <p:blipFill>
          <a:blip r:embed="rId1"/>
          <a:stretch/>
        </p:blipFill>
        <p:spPr>
          <a:xfrm>
            <a:off x="0" y="1844640"/>
            <a:ext cx="597708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56000" y="98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БИОСФ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7309" t="17932" r="9251" b="7674"/>
          <a:stretch/>
        </p:blipFill>
        <p:spPr>
          <a:xfrm>
            <a:off x="1116000" y="1773360"/>
            <a:ext cx="3595680" cy="45370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84464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нструируя лесополосы, парки, сады и т.п. , человек подбирает только небольшое число основных видов. В природных биоценозах видов во много раз больше. Значит ли это, что мы не можем создавать устойчивые сообщества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Могут ли в настоящее время сохраниться биоценозы, не подверженные никаким антропогенным воздействиям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Как можно использовать опушечный эффект при планировании сельскохозяйственных угодий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При удалении какого-либо вида из биоценоза остальные занимают его место, повышают численность и выполняют его роль. Зачем тогда заботиться о сохранении видового разнообразия сообществ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Существуют ли в природе неустойчивые сообщества?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9079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ЕМЫ ДИСКУСС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5:51:40Z</dcterms:created>
  <dc:creator>Admin</dc:creator>
  <dc:description/>
  <dc:language>en-US</dc:language>
  <cp:lastModifiedBy>Admin</cp:lastModifiedBy>
  <dcterms:modified xsi:type="dcterms:W3CDTF">2013-03-04T16:10:26Z</dcterms:modified>
  <cp:revision>19</cp:revision>
  <dc:subject/>
  <dc:title>Слайд 1</dc:title>
</cp:coreProperties>
</file>